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756-03B9-4033-BB9D-7C850B44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5F8-82EA-4A30-959F-B46D3BC2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956-E643-4F89-8F2F-6B7A58A0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933-FC9F-44B6-900C-857B6704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C897-089E-466E-9303-1190C564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7C5B-B9D7-47C8-A7C0-A0C7B08C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3D89-A187-4BD6-8CE5-B6E8485A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20C3-29CD-42B2-B1DE-7877A460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2C8D-0A1B-4206-80C5-1EE10C0C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7C8B-730A-4105-A645-956D8CE2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FAEA-515F-48D2-9520-46F8D804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189-00E9-426B-BDDE-96A8FBC3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909E-D322-4AC1-A38E-0899B836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B01A-8C22-46A6-AB2E-B319195C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8078-B680-4CB8-B3AE-62DA26AF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0C58-5392-480F-ADB9-15DF00C5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4E05-D259-4FFD-9483-DFC21AF3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789-67B4-4D2D-9A6F-E7F041E2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3E2-71D3-4B70-8F00-0B2901AC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8F7-DE31-4AF4-A344-F6D9071F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AED-3573-4B3A-B278-223527BC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96A-E4D7-45E2-BB2B-740C6907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209-D358-484E-9F5C-EB5A1386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BDD-9E58-4AB2-8DBF-A1A1CCAF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80808"/>
              </a:gs>
              <a:gs pos="100000">
                <a:srgbClr val="e1b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b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80808"/>
              </a:gs>
              <a:gs pos="100000">
                <a:srgbClr val="ffb4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8080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80808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b445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5C37-A53C-4641-8EF5-EEB4A854C6C3}" type="slidenum">
              <a:rPr b="0" lang="pt-BR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b4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80808"/>
                  </a:gs>
                  <a:gs pos="100000">
                    <a:srgbClr val="ffb4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80808"/>
                  </a:gs>
                  <a:gs pos="100000">
                    <a:srgbClr val="e1bf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8080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B460-C56C-434C-90A8-2457E6FDDAD3}" type="slidenum">
              <a:rPr b="0" lang="pt-BR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0"/>
            <a:ext cx="2362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9900"/>
                </a:solidFill>
                <a:latin typeface="Arial Black"/>
              </a:rPr>
              <a:t>B</a:t>
            </a:r>
            <a:r>
              <a:rPr b="1" lang="en-US" sz="3600" spc="-1" strike="noStrike">
                <a:solidFill>
                  <a:srgbClr val="ff9900"/>
                </a:solidFill>
                <a:latin typeface="Arial Black"/>
              </a:rPr>
              <a:t>mob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eymgroup.com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eymgroup.co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eymgroup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eymgroup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eymgroup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ymgroup.com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162920" y="0"/>
            <a:ext cx="1752480" cy="2057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Chonker"/>
              </a:rPr>
              <a:t>km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438280"/>
            <a:ext cx="858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Unicode MS"/>
              </a:rPr>
              <a:t>Русская Ассоциация Директ Маркетинг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Unicode MS"/>
              </a:rPr>
              <a:t>ДМарафо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Unicode MS"/>
              </a:rPr>
              <a:t>Наталья Вихре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4.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Oracle</a:t>
            </a:r>
            <a:br>
              <a:rPr sz="32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Финансовый сектор </a:t>
            </a:r>
            <a:br>
              <a:rPr sz="28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ГИД по клиентам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. Компания - разработчик проекта: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kmg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ирект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Адрес: Трубная,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1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елефон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775 4530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) Адрес сайта :</a:t>
            </a:r>
            <a:r>
              <a:rPr b="0" lang="pt-BR" sz="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keymgroup.com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) Автор проекта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митрий Демьянов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) Руководитель проекта:  Наталья Вихрева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. Клиент: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 компании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Oracle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Вид деятельности:  Информационные технологи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овар или услуга, для которого(ой) разрабатывался проект: Продукт для обслуживания баз данных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. Цель проведения кампании: Назначение встреч с директорами финансового сектора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. Главная проблема (трудности): Труднодоступность потенциального клиента.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. Целевая аудитория: Директора банков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. Предложение: встреча с представителем компании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7. Оформление: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3d DM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8. Последовательность действий: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Предварительный телемаркетинг, производство, рассылка, активный телемаркетинг, возврат недостающего набора шахматных фигур при встрече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9. Обратная связь: выделенная линия специально для кампании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0. Бюджет кампании: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Фактический 40 000 долларов США   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Планируемый  40 000 долларов США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Рентабельность Средняя цена установки такого продукта превышает 1 миллион долларов и один контракт уже был подписан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1. Результат проекта: Были назначены встречи с 40% человек от общего количеств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2. Период (срок) проведения кампании: 01.03.2005 по 30.06.2005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3. Дополнительные комментарии к презентации: Специально разработанный набор шахмат удивляет не только точностью передачи концепции унифицирования баз данных посредством разнокалиберных фигур на доске, но и дизайном и качеством. Вторую часть набора шахматных фигур клиент получает при встрече из рук представителя кампании Оракл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4. Перечень материалов прилагаемых к брифу: нет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5.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HP 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Серверы </a:t>
            </a: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Proliant DL</a:t>
            </a: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 585</a:t>
            </a:r>
            <a:br>
              <a:rPr sz="3200"/>
            </a:br>
            <a:r>
              <a:rPr b="1" lang="ru-RU" sz="2400" spc="-1" strike="noStrike">
                <a:solidFill>
                  <a:srgbClr val="ff9933"/>
                </a:solidFill>
                <a:latin typeface="Tahoma"/>
              </a:rPr>
              <a:t>Трудно работать с системой, у которой нет будущего</a:t>
            </a:r>
            <a:r>
              <a:rPr b="1" lang="pt-BR" sz="2400" spc="-1" strike="noStrike">
                <a:solidFill>
                  <a:srgbClr val="ff9933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1657080" cy="1359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648320" y="2438280"/>
            <a:ext cx="140472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324480" y="243828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191120" y="4230720"/>
            <a:ext cx="2952720" cy="221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5.</a:t>
            </a:r>
            <a:br>
              <a:rPr sz="2800"/>
            </a:b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HP </a:t>
            </a:r>
            <a:br>
              <a:rPr sz="28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Серверы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ProLiant</a:t>
            </a: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DL 585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. Компания - разработчик проекта: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kmg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ирект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Адрес: Трубная,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1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елефон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775 4530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) Адрес сайта :</a:t>
            </a:r>
            <a:r>
              <a:rPr b="0" lang="pt-BR" sz="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keymgroup.com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) Автор проекта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митрий Демьянов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) Руководитель проекта:  Наталья Вихрева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. Клиент: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 компании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P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Вид деятельности:  Информационные технологи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овар или услуга, для которого(ой) разрабатывался проект: Серверы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roLiant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. Цель проведения кампании: Повышение интереса к продукту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. Главная проблема (трудности):Заставить людей почувствовать, как трудно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работать с системой, у которой нет будущего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. Целевая аудитория: директор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. Предложение: Доступные по цене серверы на базе производительных процессорах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Opteron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7. Оформление: 3Д ДМ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8. Последовательность действий: Производство, рассылка, пассивный телемаркетинг, регистрация на сайте, активный телемаркетинг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9. Обратная связь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call-center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, сайт компании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0. Бюджет кампании: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Фактический   30 000 долларов США 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Планируемый  30 000 долларов США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Рентабельность Один проданный сервер окупает кампанию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1. Результат проекта: Шесть переговоров ведутся и одни уже закончены подписанием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2. Период (срок) проведения кампании: 01.03.2005 по 30.06.2005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3. Дополнительные комментарии к презентации: Сильное воздействие этой кампании обусловлено реальным ощущением невозможности воспользоваться содержимым запертой на замок коробочки, которое сродни ощущению лимитированности старой системы. . Что бы открыть замок, клиенту предлагается воити за сайт компании, зарегистрироваться и получить код, воспользовавшись персональным номером, указанным в письме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4. Перечень материалов прилагаемых к брифу:нет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6.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Microsoft – 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Красные клиенты</a:t>
            </a:r>
            <a:br>
              <a:rPr sz="32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Мы хотим поговорить с Вами о деньгах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4267080" y="3962520"/>
            <a:ext cx="3041640" cy="2280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8136" t="0" r="6367" b="0"/>
          <a:stretch/>
        </p:blipFill>
        <p:spPr>
          <a:xfrm>
            <a:off x="1447920" y="23623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410080" y="236232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>
            <a:lum contrast="48000"/>
          </a:blip>
          <a:srcRect l="8136" t="10838" r="10425" b="7789"/>
          <a:stretch/>
        </p:blipFill>
        <p:spPr>
          <a:xfrm>
            <a:off x="3429000" y="25146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6.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Microsoft</a:t>
            </a:r>
            <a:endParaRPr b="0" lang="en-US" sz="3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. Компания - разработчик проекта: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1) Название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kmg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ирект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Адрес: Трубная,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1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елефон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775 4530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) Адрес сайта :</a:t>
            </a:r>
            <a:r>
              <a:rPr b="0" lang="pt-BR" sz="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keymgroup.com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) Автор проекта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митрий Демьянов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) Руководитель проекта:  Наталья Вихрева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. Клиент: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 компании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icrosoft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Вид деятельности:  Информационные технологии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овар или услуга, для которого(ой) разрабатывался проект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Windows Small Business Server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. Цель проведения кампании: Стимулировать покупку лицензионного обеспечения, а не пиратского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. Главная проблема (трудности): Донести необходимость платить за товар, которым уже пользуются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. Целевая аудитория:Директора малых и средних компаний, пользующиеся пиратским продуктом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. Предложение: Специальная сниженная цен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7. Оформление: 3Д ДМ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8. Последовательность действий: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Производство, рассылка, пассивный телемаркетинг для открытия замка, активный телемаркетинг для продаж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9. Обратная связь: выделенная для этой кампании линия нашего кол-центр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0. Бюджет кампании: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Фактический не разглашается   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Планируемый не разглашаетс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Рентабельность 250%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1. Результат проекта: Повышение симпатии к Майкрософт и изменения представление о предлагаемом продукте, как о комплексном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2. Период (срок) проведения кампании: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01.04.2005 по 30.06.2005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3. Дополнительные комментарии к презентации: Эта кампания ставила целью установить длительные отношения с клиентом и донести до него выгодность таких отношений. Фраза на коробке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«Майкрософт не хочет, что бы Вы теряли свои деньги» ярко иллюстрируется кошельком, закрытым на замок, что дает дополнительные возможности для телемаркетинга и повышает любопытство клиента. Внутри кошелька, клиент находит визитку сотрудника Майкрософт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4. Перечень материалов прилагаемых к брифу:нет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162920" y="0"/>
            <a:ext cx="1752480" cy="2057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Chonker"/>
              </a:rPr>
              <a:t>km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57400"/>
            <a:ext cx="9329760" cy="5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Unicode MS"/>
              </a:rPr>
              <a:t>Презентация содержит описания 6 ДМ-кампаний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Unicode MS"/>
              </a:rPr>
              <a:t>Symante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9900"/>
                </a:solidFill>
                <a:latin typeface="Arial Unicode MS"/>
              </a:rPr>
              <a:t>Ora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9900"/>
                </a:solidFill>
                <a:latin typeface="Arial Unicode MS"/>
              </a:rPr>
              <a:t>H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9900"/>
                </a:solidFill>
                <a:latin typeface="Arial Unicode MS"/>
              </a:rPr>
              <a:t>Ora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9900"/>
                </a:solidFill>
                <a:latin typeface="Arial Unicode MS"/>
              </a:rPr>
              <a:t>H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9900"/>
                </a:solidFill>
                <a:latin typeface="Arial Unicode MS"/>
              </a:rPr>
              <a:t>Microso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Unicode MS"/>
              </a:rPr>
              <a:t>Кампании 1, 3 и 6 соревнуются в категории ном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Unicode MS"/>
              </a:rPr>
              <a:t>2, стимулирование покупок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Unicode MS"/>
              </a:rPr>
              <a:t>И кампании 2, 4 и 5 в категории 1, вовлечение в диало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1.</a:t>
            </a:r>
            <a:br>
              <a:rPr sz="3200"/>
            </a:b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Symantec</a:t>
            </a:r>
            <a:br>
              <a:rPr sz="3200"/>
            </a:b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Это не</a:t>
            </a: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 software, 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это </a:t>
            </a: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 hardware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157560" cy="2468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3252960" cy="2384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2057400" cy="151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1.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Symantec</a:t>
            </a:r>
            <a:endParaRPr b="0" lang="en-US" sz="3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. Компания - разработчик проекта: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kmg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директ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Адрес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Trubnaya 1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елефон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775 4530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) Адрес сайта :</a:t>
            </a:r>
            <a:r>
              <a:rPr b="0" lang="pt-BR" sz="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keymgroup.com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) Автор проекта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Dmitri Dmianov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) Руководитель проекта: 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Natalia Vikhreva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. Клиент: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Название компании: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Symantec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Вид деятельности:  Информационные технологии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Товар или услуга, для которого(ой) разрабатывался проект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ateWay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curity Appliance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устройство сетевой защиты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. Цель проведения кампании: Повышение интереса к продукту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4. Главная проблема (трудности):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Symantec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знаком на рынке, как производитель программного обеспечения, но этот продукт – первый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ardware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этой компании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. Целевая аудитория: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500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CFOs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6. Предложение: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Бесплатное тестирование продукт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7. Оформление: Обычный рекламный буклет был прикручен винтиками к жесткой основе. На месте сгиба использовались металлические петли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8. Последовательность действий: производство, рассылка, активный телемаркетинг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9. Обратная связь: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call-center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0. Бюджет кампании: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) Фактический 10 000 долларов США   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2) Планируемый 10 000 долларов США   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3) Рентабельность 280%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1. Результат проекта: продажи продукта по результатам кампании составили 28 000 долларов СШ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2. Период (срок) проведения кампании: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01.09.2004 по 30. 10. 2004 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3. Дополнительные комментарии к презентации: Главный фактор кампании, удивить клиента, креативным способом подчеркнув разницу между мягкой бумагой буклета и стилем ее оформления, как нечто жесткое. Таким образом обращая внимание клиента на тот факт, что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ymantec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выпустил первый продукт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ardwere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14. Перечень материалов прилагаемых к брифу: нет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2.</a:t>
            </a:r>
            <a:br>
              <a:rPr sz="3200"/>
            </a:b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Oracle 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Государственный сектор</a:t>
            </a:r>
            <a:br>
              <a:rPr sz="32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Приглашение на чай и к сотрудничеству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1968480" cy="1409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34120" y="1905120"/>
            <a:ext cx="3517920" cy="2655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19112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2.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Oracle   </a:t>
            </a:r>
            <a:br>
              <a:rPr sz="32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Приглашение на чай и к сотрудничеству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. Компания - разработчик проекта: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) Название: 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kmg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директ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) Адрес: Трубная,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 12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) Телефон: 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775 4530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4) Адрес сайта :</a:t>
            </a:r>
            <a:r>
              <a:rPr b="0" lang="pt-BR" sz="9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keymgroup.com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5) Автор проекта: 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Дмитрий Демьянов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6) Руководитель проекта:  Наталья Вихрева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. Клиент: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) Название компании: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Oracle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) Вид деятельности:  Информационные технологии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) Товар или услуга, для которого(ой) разрабатывался проект: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ERP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. Цель проведения кампании: Назначение встреч с администрацией гос. организаций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4. Главная проблема (трудности): Начать диалог не о технологиях, но о бизнесе.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5. Целевая аудитория: Руководители гос. структур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6. Предложение: встреча с представителем компании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7. Оформление: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3d DM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8. Последовательность действий: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Предварительный телемаркетинг, производство, рассылка, активный телемаркетинг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9. Обратная связь: выделенная линия специально для кампании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0. Бюджет кампании: 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) Фактический 40 000 долларов США     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) Планируемый  40 000 долларов США  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) Рентабельность Средняя цена установки такого продукта превышает 1 миллион долларов и один контракт уже был подписан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1. Результат проекта: Были назначены встречи с 25% человек от общего количества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2. Период (срок) проведения кампании: 10.01.2005 по 30.03.2005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3. Дополнительные комментарии к презентации: Оригинальная и дружелюбная форма установить контакт для диалога о возможностях сотрудничества, а не о технологиях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4. Перечень материалов прилагаемых к брифу: нет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3.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HP</a:t>
            </a: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 ProLiant DL 145</a:t>
            </a:r>
            <a:br>
              <a:rPr sz="3200"/>
            </a:br>
            <a:r>
              <a:rPr b="1" lang="ru-RU" sz="2400" spc="-1" strike="noStrike">
                <a:solidFill>
                  <a:srgbClr val="ff9933"/>
                </a:solidFill>
                <a:latin typeface="Tahoma"/>
              </a:rPr>
              <a:t>Трудно перевернуть страницу Вашей системы</a:t>
            </a:r>
            <a:r>
              <a:rPr b="1" lang="pt-BR" sz="2400" spc="-1" strike="noStrike">
                <a:solidFill>
                  <a:srgbClr val="ff9933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105520" y="220968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295280" y="365760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200400" y="3657600"/>
            <a:ext cx="1871640" cy="140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3.</a:t>
            </a:r>
            <a:br>
              <a:rPr sz="2800"/>
            </a:br>
            <a:r>
              <a:rPr b="1" lang="pt-BR" sz="2800" spc="-1" strike="noStrike">
                <a:solidFill>
                  <a:srgbClr val="ff9933"/>
                </a:solidFill>
                <a:latin typeface="Tahoma"/>
              </a:rPr>
              <a:t>HP Proliant DL 145</a:t>
            </a:r>
            <a:br>
              <a:rPr sz="28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Трудно работать с системой, у которой нет будущего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. Компания - разработчик проекта: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) Название: 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kmg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директ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) Адрес: Трубная,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 12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) Телефон: 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775 4530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4) Адрес сайта :</a:t>
            </a:r>
            <a:r>
              <a:rPr b="0" lang="pt-BR" sz="9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keymgroup.com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5) Автор проекта: </a:t>
            </a: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Дмитрий Демьянов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6) Руководитель проекта:  Наталья Вихрева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  </a:t>
            </a: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. Клиент: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) Название компании: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HP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) Вид деятельности:  Информационные технологии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) Товар или услуга, для которого(ой) разрабатывался проект: Серверы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ProLiant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. Цель проведения кампании: Повышение интереса к продукту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4. Главная проблема (трудности):Заставить людей почувствовать, как трудно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работать с системой, у которой нет будущего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5. Целевая аудитория: менеджеры, ответственные за закупку ИТ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6. Предложение: Доступные по цене серверы на базе производительных процессорах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Opteron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7. Оформление: Ламинированный буклет с липучкой между страниц, с тем, что бы усложнить раскрытие.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8. Последовательность действий: Производство, рассылка, пассивный телемаркетинг, активный телемаркетинг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9. Обратная связь: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all-center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0. Бюджет кампании: 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) Фактический   18 000 долларов США   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) Планируемый  18 000 долларов США   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) Рентабельность 150%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1. Результат проекта: Повышение осведомленности о продукте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2. Период (срок) проведения кампании: 01.03.2005 по 30.06.2005 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3. Дополнительные комментарии к презентации: Особенность этой кампании, это реальное тактильное ощущение сопротивления при открытии, которое призвано передать идею трудности работы с необновляемой системой.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b4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4. Перечень материалов прилагаемых к брифу:нет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4.</a:t>
            </a:r>
            <a:br>
              <a:rPr sz="3200"/>
            </a:br>
            <a:r>
              <a:rPr b="1" lang="pt-BR" sz="3200" spc="-1" strike="noStrike">
                <a:solidFill>
                  <a:srgbClr val="ff9933"/>
                </a:solidFill>
                <a:latin typeface="Tahoma"/>
              </a:rPr>
              <a:t>Oracle </a:t>
            </a:r>
            <a:r>
              <a:rPr b="1" lang="ru-RU" sz="3200" spc="-1" strike="noStrike">
                <a:solidFill>
                  <a:srgbClr val="ff9933"/>
                </a:solidFill>
                <a:latin typeface="Tahoma"/>
              </a:rPr>
              <a:t>Финансовый сектор</a:t>
            </a:r>
            <a:br>
              <a:rPr sz="3200"/>
            </a:br>
            <a:r>
              <a:rPr b="1" lang="ru-RU" sz="2800" spc="-1" strike="noStrike">
                <a:solidFill>
                  <a:srgbClr val="ff9933"/>
                </a:solidFill>
                <a:latin typeface="Tahoma"/>
              </a:rPr>
              <a:t>Создайте ГИД по клиентам</a:t>
            </a:r>
            <a:endParaRPr b="0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 rot="20847000">
            <a:off x="541440" y="4231800"/>
            <a:ext cx="2209680" cy="2125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8136" t="0" r="14503" b="0"/>
          <a:stretch/>
        </p:blipFill>
        <p:spPr>
          <a:xfrm>
            <a:off x="2057400" y="2362320"/>
            <a:ext cx="1447920" cy="140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886200" y="236232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867280" y="2286000"/>
            <a:ext cx="14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095880" y="464832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rcRect l="16292" t="0" r="6367" b="0"/>
          <a:stretch/>
        </p:blipFill>
        <p:spPr>
          <a:xfrm>
            <a:off x="4343400" y="4648320"/>
            <a:ext cx="1447920" cy="140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46:08Z</dcterms:created>
  <dc:creator>Kleber Vianna</dc:creator>
  <dc:description/>
  <dc:language>en-US</dc:language>
  <cp:lastModifiedBy>editor</cp:lastModifiedBy>
  <dcterms:modified xsi:type="dcterms:W3CDTF">2005-09-12T07:51:00Z</dcterms:modified>
  <cp:revision>29</cp:revision>
  <dc:subject/>
  <dc:title>Bmobile wireless entertainment</dc:title>
</cp:coreProperties>
</file>